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FD0-2B51-478F-9ACA-69AAAB9B3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06F8-B7FE-4DD2-A93A-2D053D007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BEF-F4BD-4695-9676-016878B8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5A1-A43E-415A-92FD-FCD68233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BD2-672A-442B-BCAF-F0EFA01A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145-5CCC-4933-B55B-7A5171FE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2F3-52F7-4646-9645-4356BB3D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55E9-E315-43F1-9A14-FA33FF17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AB9-5142-4B11-96C7-3CAB0A2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EAB6-B030-4F8F-B45C-B2012EBC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29B4-D340-41BA-B2D9-46F615B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8B9F-0BE1-478E-88AE-18B2FF05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0CBC-3D08-4C74-9489-2DD704C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E54-2772-4F22-B7ED-C893CEE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563-572F-4602-867F-4DAF058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8553-3D24-4741-9C14-989F242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FEA6-3B97-4200-AC77-28B86ABF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FA5-EA4A-4C8B-AC5C-9A0CF529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1BFC-D605-47D3-99BB-7D17FB7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ADD9-3384-42FA-B524-3377AA58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B26D-39D6-4BDD-BDB8-F5F6809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4EAC-29DC-4543-B0CF-78E40DF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8BE8-4018-4D6B-9D6F-2700D63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51A2-3E09-4716-99C6-681F604B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B6B-0524-4C8D-9D84-0A4A509E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FE95-9EAF-458F-8815-A4686E8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25C3-AB70-4401-8CD2-22D4D92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8B9A-146F-40F8-BBFA-0E332E6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0660-02BE-4E08-997A-5275D4C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AA68-DCD6-4BD2-854F-9ACF35C5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0581-F945-4353-B8AA-B0DC57DD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0601-B216-442B-BFA2-5EF609C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F16B-C12A-48F0-9696-4920E5EE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FB12-0164-450A-B65D-DC32F9E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A144-6074-42BB-AC64-6628E54B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E94-B880-415F-A970-2194D77E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1537-A50D-4816-B65F-A125D559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CD9C-6B52-4B20-8E80-F8EEC42C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FBB3-CCF0-4DF8-BDB0-0C4D41E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688B-0357-48B2-8067-4E32AE1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939D-F75B-459A-8744-A900D16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3BB4-1A9E-4959-88FC-FA70C20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1BE6-8376-45CC-AB92-7B41F6F6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A6CB-D327-4739-9B16-8970C085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881E-528F-46A7-9C25-4E7D25E4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A7DC-4C66-4A05-B3CA-E270A05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9EF-E74B-4064-8EB7-CE4D1CF8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CAB3A-E8DE-40C0-8568-B741FF5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CEB7-244D-4B26-979B-211BFDF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0607-0BAF-41CA-9570-E3792277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1474-5D09-4A4C-BBFF-9145CC0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32345-9D1D-4C85-9A2F-E7DF121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46C4-BC40-4549-BE5B-F7A02B80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1F92-EC45-407A-9D60-E2DBD11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AB27-081D-4F03-9917-0D9EB60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62041-6355-4A4D-99CE-D141DDEA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2AFD-07AF-46C5-8BB1-D846920E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DBB-78B4-4E23-BD50-7A9C1A0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664D-08BB-4FD0-9FCF-5BD7FF66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A7F-9605-4BCB-BACC-1C37964F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262-37A2-4A6F-9C50-A35EECB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6A6-E554-441A-909B-1596787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473-1533-49C8-B415-D53E1FFED2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3E4-B4B5-43D3-AE54-361DC56B52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E3B1-FCFC-47F7-BEDE-98F2BE6293F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9062-1301-48E0-A209-91CA264C02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0628-AF41-42A2-ACB4-E0F4DD5D83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00040" y="-39672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2"/>
          <a:stretch/>
        </p:blipFill>
        <p:spPr>
          <a:xfrm>
            <a:off x="1692360" y="1052640"/>
            <a:ext cx="5289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1"/>
          <a:stretch/>
        </p:blipFill>
        <p:spPr>
          <a:xfrm>
            <a:off x="0" y="1125360"/>
            <a:ext cx="4782960" cy="502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79995\Desktop\изонить\30 декабря -1 января «Звезда»\String-art-star-design.jpg"/>
          <p:cNvPicPr/>
          <p:nvPr/>
        </p:nvPicPr>
        <p:blipFill>
          <a:blip r:embed="rId2"/>
          <a:stretch/>
        </p:blipFill>
        <p:spPr>
          <a:xfrm>
            <a:off x="4640400" y="2565360"/>
            <a:ext cx="450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79995\Desktop\изонить\30 декабря -1 января «Звезда»\izonit_zvezda_shema_5.jpg"/>
          <p:cNvPicPr/>
          <p:nvPr/>
        </p:nvPicPr>
        <p:blipFill>
          <a:blip r:embed="rId1"/>
          <a:stretch/>
        </p:blipFill>
        <p:spPr>
          <a:xfrm>
            <a:off x="0" y="1268280"/>
            <a:ext cx="928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79995\Desktop\изонить\30 декабря -1 января «Звезда»\izonit_zvezda_shema_22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27T08:50:35Z</dcterms:modified>
  <cp:revision>39</cp:revision>
  <dc:subject/>
  <dc:title>ТВОРЧЕСКАЯ ДЕЯТЕЛЬНОСТЬ: ЗНАКОМСТВО С ТЕХНИКОЙ ИЗОНИТЬ</dc:title>
</cp:coreProperties>
</file>